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3F21-92E1-4B2C-AE57-050D2410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CAF8-D936-42D5-B475-2710ACCF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E4A9-9CC1-45F8-97EC-1F892040C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7571-47A1-4890-8597-1CAC428C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127E-1677-409E-BDBF-0BFE3A96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534A-B056-41A5-9A4C-34F1AEB6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0B76E-4DCD-44C9-ADAA-03213424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8FC7-AE60-4D5C-A08D-2749EDF9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66FE8-5BC1-4B08-923F-7DD04564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2E838-375D-4458-8542-77DB3C97F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34F-CF7F-46FC-85A7-19FD44E4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64B6-C16D-4104-A7DD-A170C7E4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1C2D6-E045-457F-AC48-4023F7F95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A4597-7827-46DA-93A6-6C91259E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701-0E5A-41DA-8F66-120116F6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ED95-B715-4556-848C-8DDD34FD8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DBF1-CC18-4BC8-9BF4-B8128F06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632F-D25C-40B2-A78C-9955432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B400-60E3-449E-9041-C4705041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FCE9-DD6E-49BE-9202-56ACF10A4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99B8-CB4F-45D1-9126-FECFD29D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317D-38EC-4062-8E65-037C63F0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9D7-897B-49E9-8EAD-0C9903E0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05B-772F-4B7B-A6CD-C2BABFAF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9A09-3801-487D-8B94-B22D89F27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6F77-1A52-4503-AA4F-19D0AE864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32.xml"/><Relationship Id="rId10" Type="http://schemas.openxmlformats.org/officeDocument/2006/relationships/slide" Target="slide22.xml"/><Relationship Id="rId11" Type="http://schemas.openxmlformats.org/officeDocument/2006/relationships/slide" Target="slide42.xml"/><Relationship Id="rId12" Type="http://schemas.openxmlformats.org/officeDocument/2006/relationships/slide" Target="slide14.xml"/><Relationship Id="rId13" Type="http://schemas.openxmlformats.org/officeDocument/2006/relationships/slide" Target="slide24.xml"/><Relationship Id="rId14" Type="http://schemas.openxmlformats.org/officeDocument/2006/relationships/slide" Target="slide34.xml"/><Relationship Id="rId15" Type="http://schemas.openxmlformats.org/officeDocument/2006/relationships/slide" Target="slide44.xml"/><Relationship Id="rId16" Type="http://schemas.openxmlformats.org/officeDocument/2006/relationships/slide" Target="slide16.xml"/><Relationship Id="rId17" Type="http://schemas.openxmlformats.org/officeDocument/2006/relationships/slide" Target="slide26.xml"/><Relationship Id="rId18" Type="http://schemas.openxmlformats.org/officeDocument/2006/relationships/slide" Target="slide36.xml"/><Relationship Id="rId19" Type="http://schemas.openxmlformats.org/officeDocument/2006/relationships/slide" Target="slide46.xml"/><Relationship Id="rId20" Type="http://schemas.openxmlformats.org/officeDocument/2006/relationships/slide" Target="slide18.xml"/><Relationship Id="rId21" Type="http://schemas.openxmlformats.org/officeDocument/2006/relationships/slide" Target="slide28.xml"/><Relationship Id="rId22" Type="http://schemas.openxmlformats.org/officeDocument/2006/relationships/slide" Target="slide38.xml"/><Relationship Id="rId23" Type="http://schemas.openxmlformats.org/officeDocument/2006/relationships/slide" Target="slide48.xml"/><Relationship Id="rId24" Type="http://schemas.openxmlformats.org/officeDocument/2006/relationships/slide" Target="slide20.xml"/><Relationship Id="rId25" Type="http://schemas.openxmlformats.org/officeDocument/2006/relationships/slide" Target="slide30.xml"/><Relationship Id="rId26" Type="http://schemas.openxmlformats.org/officeDocument/2006/relationships/slide" Target="slide40.xml"/><Relationship Id="rId27" Type="http://schemas.openxmlformats.org/officeDocument/2006/relationships/slide" Target="slide50.xml"/><Relationship Id="rId2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Times New Roman"/>
              </a:rPr>
              <a:t>Jeopardy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762120" y="1533600"/>
          <a:ext cx="7775280" cy="463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33600"/>
                    <a:ext cx="77752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89928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17524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692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4960" y="175248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42880" y="1752480"/>
            <a:ext cx="144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ading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402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720" y="3241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00720" y="400356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00720" y="47656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720" y="5527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1676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488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406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2440" y="2514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676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406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488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2440" y="3276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1676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468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41120" y="39625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2440" y="40384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516760" y="47242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406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488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2440" y="48006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676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406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488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012440" y="55627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70160" y="6324480"/>
            <a:ext cx="1986840" cy="45972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nal Jeopar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6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7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8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9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0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1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3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2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4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4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4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1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7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0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6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2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Question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8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500 Answer from H5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81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9960" y="2438280"/>
            <a:ext cx="8619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is author wrote, “If one man kills another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 murder, but if a hundred thousand men k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other hundred thousand, it is considered 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ct of glory!?”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86" name="m_button" descr=""/>
          <p:cNvPicPr/>
          <p:nvPr/>
        </p:nvPicPr>
        <p:blipFill>
          <a:blip r:embed="rId2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66"/>
                </a:solidFill>
                <a:latin typeface="Times New Roman"/>
              </a:rPr>
              <a:t>Final Jeopardy Answer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505520" y="2766960"/>
            <a:ext cx="419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 Tolsto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(The book is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Kingdom of God)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6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3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Question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2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$400 Answer from H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5" name="m_button" descr=""/>
          <p:cNvPicPr/>
          <p:nvPr/>
        </p:nvPicPr>
        <p:blipFill>
          <a:blip r:embed="rId1"/>
          <a:stretch/>
        </p:blipFill>
        <p:spPr>
          <a:xfrm>
            <a:off x="380880" y="59436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91440" y="3168720"/>
            <a:ext cx="30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r Tex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7T14:16:32Z</dcterms:created>
  <dc:creator>SCPS</dc:creator>
  <dc:description/>
  <dc:language>en-US</dc:language>
  <cp:lastModifiedBy>sfms</cp:lastModifiedBy>
  <dcterms:modified xsi:type="dcterms:W3CDTF">1999-10-12T23:28:56Z</dcterms:modified>
  <cp:revision>14</cp:revision>
  <dc:subject/>
  <dc:title>Jeopardy</dc:title>
</cp:coreProperties>
</file>